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41D-0B0B-4F6E-A470-20B1D83A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C28-36D0-4D51-B419-BD48CF74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948A1-811F-46CE-83B1-69954323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613F0-D008-4448-BA24-25E86BF1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2DFC8-E6F6-48F5-A54A-C8815C29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23EF5-15BB-4017-AC43-528AEFF4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74BD1-B717-453A-BF48-42CBE419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5CDE1-ED0F-46EB-9673-B06C6BF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DB2F8-9A45-4323-A2F1-698219F3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10044-1977-44B7-8690-274A8D4D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DF2C3-24D6-4F4B-B520-946D1E9A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0BFC3-31C1-4C43-8F74-783F7592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2A4-5F0A-4F39-B34E-CFBA457A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7CDB1-6142-4708-8AE1-43CF7078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D059C-7493-414B-87D7-4EAB8DFC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A59E4-2E6E-49AD-9543-370655EE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F53CB-A2C2-40C6-BB57-2F83AF0E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2F5DF-AB2C-4DEB-8EB5-B3CB07F7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B5917-7A63-4CC6-B7E2-ECB28475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CC30A-87F0-4829-BB44-ABB992DB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C56A2-66E0-4B1A-9B84-23C0F52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A233C-9E4F-46B6-9907-91C73227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EE1BD-F173-4734-A6AF-6C0FA472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8B6-76F7-45DD-A00F-F25A4133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FCFE7-BD5B-4B80-9C81-39B67639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3A4A5-E374-4FA2-B8D1-9FE4630E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31851-598E-4816-992C-3FD55B26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F5E74-3BF3-4825-8F51-2AAE5356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7D415-EB8E-4AFB-8E49-928AA47E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F9382-C7BD-46E2-B624-D4963640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8BA6D-C16F-4811-AA71-CDD0D175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2B12D-F558-4BFB-8113-348B6269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D8BF3-1444-42EF-BBB4-CF39E461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03B23-7C54-4440-ACAB-2DEE591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17DC-A72D-43CE-A76B-33257D93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58AD8-49C0-4150-A4F8-7B3D69E3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D86F8-C155-4103-ACD0-7C465BD7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D10BC-1E50-44D8-A75B-E7EB9902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CEE02-1CC8-47E2-B4BE-F072FB23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65CF1-5A3C-4DA7-8852-08D3C5E9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ABDF7-CE6C-48DF-8BC0-533C139E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9D80E-3267-41E2-AD05-F3707150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FEAA6-88CB-4FA9-88BC-BB9A4FD5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EA098-ECEF-45D3-8D55-A0BE83E1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2B8DB-F809-405F-B381-DEF0255F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4040-ADF8-447F-8DD5-D49BA385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D371F-9460-4973-A8E2-844F2EE7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5820A-5A13-40E8-B571-5C885F3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44F11-6358-48A3-AE03-0B6174B8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4AA2F-9DD6-4CE5-A074-C74FB075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7C72E-8F67-4E34-897A-A1C0DFCB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F747-AFB5-49AB-9437-80EFC977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1FBF-EDEF-4C08-968C-65C072B4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28EB-BDC4-42A9-AF51-92CE0900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DCB3-4C31-4DFF-87B2-6A054073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57AB-984F-46AA-A4F3-D2D47046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4BE-AEC6-410F-880D-2EE84D10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CD6E-428B-4E89-A7F9-27AAA656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FA15-35D2-4086-9D3F-ECEB00D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4FDE-8DFB-4D8D-8069-F975622F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04C0-11DE-4187-9346-15D4331D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0311-DFC3-42F2-9CDF-2FEB917B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2E15-4430-4B0B-878E-1B00C2CD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F194-9F86-4BD2-85A5-3B22BA86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5BABA-3153-4596-BB9B-00E1763B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9AFA-15F6-4086-B0A2-B4CA1837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E8E05-B441-4D0D-B87D-94BF95B0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480-B7C0-4566-9A1A-DD167390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F831-0C0E-4B07-B037-4C71409F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D046-574B-4D69-9635-9297221A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1B23-DA28-4CAE-A41C-A2CCD664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CF83-8180-44DB-9BFF-C43E18B9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9557-7698-4C24-AF86-7B9CD2EF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6487-2AA1-4AEA-9CA2-08ED12CA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92B4-3808-4723-870C-0411E484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37CCB-A8A3-4BD0-90AC-7E3B64E5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B6276-5BB4-47FF-BD13-004F155A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650B-C57D-4D8D-B443-1BD6D62F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7CB-31E3-4304-A2AC-DCE450AD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6A4BC-F0BA-4138-9D16-676588ED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2F3A2-6C9B-4ED3-987E-E171C435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1D33D-D270-4937-ADA5-292DE7D1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820CD-D0F5-40DE-9D05-FC6FAABE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F0EA7-4DA0-4675-9838-330078CC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5D6EE-930E-49AC-9F1C-D0A4DD71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86BC4-A8B5-4103-B6F6-D544593F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0D1BC-1188-4D45-8C2B-68BCA83C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FE926-BF54-43CE-A3A4-7C33D655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AF210-E8AC-421F-8EE6-E8BBEAB7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5DB-B7F8-4056-9401-BC63090E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6EB09-7C4B-4331-8D1C-DF8F36C2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7806B-94F9-4034-839B-ECE80175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05333-9812-4BED-A11E-658E822C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3C6A1-0C85-457D-8F16-7C9E8220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5DA29-0403-4132-88ED-555EF77F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3F7EC-A3E6-46CF-B4AC-15641C59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3C84-94C0-47F0-B7D9-E73C7969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164A9-13C3-422F-B0B3-2ABE5D8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30084-6215-423B-A3E7-E4F4A1A4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BD72-1937-45DA-8826-AB748F4C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135-3020-4E3E-9A12-93505D53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D955-2996-4749-9E5E-BA3CDD13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A85A-A8C6-4F16-A9AB-DAF34500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15FBC-6764-4955-BF68-F4E0150A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FB9DA-87B8-4F2A-92AD-C9884007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A6290-DF25-419E-9049-EA48436A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7E16A-F954-4626-854C-06F8D292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D9FDC-CD67-4DAC-AE84-C916C31F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04B6C-2227-4082-A15B-5C5A6CFC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FD600-0185-4680-A2E3-313E225E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64B69-680C-45DD-AA6D-1902369B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DF4-0BC6-4BC4-8C5A-C7CD4117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90C3F-529D-4554-8DCE-33E0F8AB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0A930-DD84-49D4-9E2E-A22BBF3A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AAD45-EBDF-4C6E-84CB-05F6B502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91836-9C39-4804-A8C6-38303FCE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1758F-71AD-4E62-A756-3D67DCEE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FDED3-3642-4659-A6D3-29852E31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E7B36-9454-4425-B643-59430C5A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10368-3F16-436E-A52D-31B4CF8F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95DA2-3AC0-4936-BFD5-82B36430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47477-E082-4F1F-B93C-8DF445E4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F6E-3C6D-45DF-9C55-EDBBE6E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DAE7E-5CED-45F7-B231-7FB2BA8C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1C2A4-0537-4DEC-88D2-F20BCBC3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FFF42-8CFC-4865-9B40-84C377EF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AF59C-36E1-4FEF-9EFF-DDD2F0A5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C601C-D696-4A96-BB56-4F23AFD1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E314D-78AF-4FD1-A567-6CFF5EE9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5B44D-74C5-46E9-A0E2-1353747A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CA7AE-331C-4C29-97E5-BAE6F69B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59AC5-E6C2-4A6B-89A7-7472884C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9E9CB-02A4-45C5-AD68-0CA8869C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028-2ACA-4F9B-A124-7ACD49E2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4EDBE-1EE9-49CC-8693-02420542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5073D-A6FB-4C8A-9E2C-0E07F399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43DD8-3BD2-4495-9632-48DA0B5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4B30C-5106-4969-AD23-D62F880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A8F2A-0A8B-4393-B445-082EF78A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10790-EF8C-4A81-9902-260BCE9D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0529E-1B10-409F-B4EC-ADF7E563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DE012-194E-4263-9137-EA90F7F0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A90F3-3044-4A8C-AF84-83EAF983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B988A-D486-492C-B074-04AE0D8E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8F54-4128-4863-8BD4-C704952D5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0276-628F-4C5E-8D07-9FBED5E87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0A03-B580-487D-937D-9C0EDF2FC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DDBE-FC28-4520-A8C0-0B3CD0E0B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DC07-8A3B-4D50-AC9A-2C697E463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B3BF-2AB4-4275-9617-6163CA100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B913-F8D9-49F8-9C29-FFCF83E80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1F38-9DBC-427B-8029-3DED124FC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D049-3A54-47AF-A1AE-037EA1FFC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7C51-51EE-4681-B1B6-DBC3B7246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065F-52B2-4BBD-8664-D03FE5BDD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81C8-4D67-4404-9BFA-1853CB11C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Eastern States and Capit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le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es from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sac of toys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Freeform 7"/>
          <p:cNvSpPr/>
          <p:nvPr/>
        </p:nvSpPr>
        <p:spPr>
          <a:xfrm rot="20349000">
            <a:off x="5343480" y="3259080"/>
            <a:ext cx="88416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orth Carolina, Raleig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hi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Mitten grabb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Freeform 7"/>
          <p:cNvSpPr/>
          <p:nvPr/>
        </p:nvSpPr>
        <p:spPr>
          <a:xfrm>
            <a:off x="4572000" y="2057400"/>
            <a:ext cx="808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324480" y="4038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chigan, Lan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Freeform 9"/>
          <p:cNvSpPr/>
          <p:nvPr/>
        </p:nvSpPr>
        <p:spPr>
          <a:xfrm>
            <a:off x="4800600" y="2666880"/>
            <a:ext cx="457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6400800" y="289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Gi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6248520" y="4038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ndiana, India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“O Hi O” to Columbus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Freeform 9"/>
          <p:cNvSpPr/>
          <p:nvPr/>
        </p:nvSpPr>
        <p:spPr>
          <a:xfrm>
            <a:off x="5105520" y="2590920"/>
            <a:ext cx="53316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6400800" y="3657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Ohio, Columb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5"/>
          <p:cNvSpPr/>
          <p:nvPr/>
        </p:nvSpPr>
        <p:spPr>
          <a:xfrm>
            <a:off x="624852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il is Sass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Freeform 7"/>
          <p:cNvSpPr/>
          <p:nvPr/>
        </p:nvSpPr>
        <p:spPr>
          <a:xfrm rot="19281600">
            <a:off x="5279760" y="3949200"/>
            <a:ext cx="685800" cy="11858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400800" y="2590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Florida, Tallahass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Freeform 7"/>
          <p:cNvSpPr/>
          <p:nvPr/>
        </p:nvSpPr>
        <p:spPr>
          <a:xfrm>
            <a:off x="4203720" y="2162160"/>
            <a:ext cx="774720" cy="628560"/>
          </a:xfrm>
          <a:custGeom>
            <a:avLst/>
            <a:gdLst/>
            <a:ahLst/>
            <a:rect l="l" t="t" r="r" b="b"/>
            <a:pathLst>
              <a:path w="488" h="396">
                <a:moveTo>
                  <a:pt x="461" y="311"/>
                </a:moveTo>
                <a:cubicBezTo>
                  <a:pt x="449" y="266"/>
                  <a:pt x="438" y="235"/>
                  <a:pt x="406" y="201"/>
                </a:cubicBezTo>
                <a:cubicBezTo>
                  <a:pt x="388" y="148"/>
                  <a:pt x="392" y="84"/>
                  <a:pt x="333" y="64"/>
                </a:cubicBezTo>
                <a:cubicBezTo>
                  <a:pt x="293" y="26"/>
                  <a:pt x="230" y="19"/>
                  <a:pt x="177" y="9"/>
                </a:cubicBezTo>
                <a:cubicBezTo>
                  <a:pt x="137" y="13"/>
                  <a:pt x="87" y="0"/>
                  <a:pt x="58" y="28"/>
                </a:cubicBezTo>
                <a:cubicBezTo>
                  <a:pt x="43" y="42"/>
                  <a:pt x="42" y="66"/>
                  <a:pt x="31" y="83"/>
                </a:cubicBezTo>
                <a:cubicBezTo>
                  <a:pt x="35" y="165"/>
                  <a:pt x="0" y="265"/>
                  <a:pt x="86" y="293"/>
                </a:cubicBezTo>
                <a:cubicBezTo>
                  <a:pt x="106" y="375"/>
                  <a:pt x="96" y="342"/>
                  <a:pt x="113" y="393"/>
                </a:cubicBezTo>
                <a:cubicBezTo>
                  <a:pt x="235" y="390"/>
                  <a:pt x="358" y="396"/>
                  <a:pt x="479" y="384"/>
                </a:cubicBezTo>
                <a:cubicBezTo>
                  <a:pt x="488" y="383"/>
                  <a:pt x="488" y="231"/>
                  <a:pt x="461" y="311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629400" y="1905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MIMAL get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si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6246720" y="385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isconsin, Mad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 Simpson upside down yelling about al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4495680" y="2666880"/>
            <a:ext cx="511200" cy="8366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324480" y="42670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llinois, Springfie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248520" y="26668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 is best eaten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’s 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at h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 rot="20632800">
            <a:off x="4734000" y="3119400"/>
            <a:ext cx="82692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858000" y="4724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Kentucky, Frank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6248520" y="26668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pla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vil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 C’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Freeform 7"/>
          <p:cNvSpPr/>
          <p:nvPr/>
        </p:nvSpPr>
        <p:spPr>
          <a:xfrm rot="20781600">
            <a:off x="4648320" y="3352320"/>
            <a:ext cx="990360" cy="4557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6934320" y="5181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Tennessee, Nashvi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ck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ses his Sip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4572000" y="3657600"/>
            <a:ext cx="533520" cy="9129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248520" y="4191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ssissippi, Jack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6248520" y="3505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nt Gum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Alab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7"/>
          <p:cNvSpPr/>
          <p:nvPr/>
        </p:nvSpPr>
        <p:spPr>
          <a:xfrm>
            <a:off x="4876920" y="3657600"/>
            <a:ext cx="53316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6705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Alabama, Montgom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 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see her diamo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7"/>
          <p:cNvSpPr/>
          <p:nvPr/>
        </p:nvSpPr>
        <p:spPr>
          <a:xfrm>
            <a:off x="5257800" y="3581280"/>
            <a:ext cx="53352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6400800" y="3962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Georgia, Atla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au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ways wears h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lumb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carrot’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7"/>
          <p:cNvSpPr/>
          <p:nvPr/>
        </p:nvSpPr>
        <p:spPr>
          <a:xfrm rot="20458200">
            <a:off x="5410080" y="3429000"/>
            <a:ext cx="60192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6248520" y="4114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South Carolina, Colu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6-10-07T15:58:43Z</dcterms:modified>
  <cp:revision>39</cp:revision>
  <dc:subject/>
  <dc:title>United States</dc:title>
</cp:coreProperties>
</file>